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F07-EC4D-420C-AF28-D023B376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8D5E-6C9C-41CC-96D4-B27C0023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52F-1D8C-45E4-B9DF-EADDE467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9349-E98A-453A-996D-A00666C7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973-43F1-4515-9368-019F5115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06BA-349B-42B6-812B-ABDA12ED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9576-3979-4450-BD76-6B0FEEC3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4484-0921-43B8-9563-EF0FA5E4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784D-B63E-4C25-940E-793429BF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BDA0-13E5-4AE0-857A-A3C2DE0B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5F18-D3AC-4869-A4F1-78FF91BE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7BA-EB71-4D86-94E2-3B4B8E9C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71F8-6AC6-4FC1-9884-9EE98E033E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333360"/>
            <a:ext cx="5683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РО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ВАН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20760" y="135000"/>
            <a:ext cx="772920" cy="100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4343400" y="6400800"/>
            <a:ext cx="5335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728640" y="6149880"/>
            <a:ext cx="7753320" cy="57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ключенном  контракте Заказчик публикует в течени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-х рабочих дне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ОС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4792680" y="1365120"/>
            <a:ext cx="3181320" cy="282600"/>
          </a:xfrm>
          <a:prstGeom prst="rect">
            <a:avLst/>
          </a:prstGeom>
          <a:solidFill>
            <a:srgbClr val="cc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бедител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7"/>
          <p:cNvSpPr/>
          <p:nvPr/>
        </p:nvSpPr>
        <p:spPr>
          <a:xfrm>
            <a:off x="1187280" y="1365120"/>
            <a:ext cx="2787840" cy="282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4764240" y="2479680"/>
            <a:ext cx="3238200" cy="887400"/>
          </a:xfrm>
          <a:prstGeom prst="rect">
            <a:avLst/>
          </a:prstGeom>
          <a:solidFill>
            <a:srgbClr val="cc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Победитель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подписанный усиленной электронной подписью проект контракта, а также документ, подтверждающий предоставление обеспечения исполнения контракта (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если нет разногласий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539640" y="2492280"/>
            <a:ext cx="3287880" cy="9003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без подписи проект контракта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(с указанием цены и информации о товаре, конкретных показателях товара, указанных в заявке на участие в аукционе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615960" y="3900600"/>
            <a:ext cx="4748040" cy="6411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подписывает контракт электронной подписью на электронной площадке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"/>
          <p:cNvSpPr/>
          <p:nvPr/>
        </p:nvSpPr>
        <p:spPr>
          <a:xfrm>
            <a:off x="1908000" y="804960"/>
            <a:ext cx="5832720" cy="33732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рядок заключения контракта (ст. 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34"/>
          <p:cNvSpPr/>
          <p:nvPr/>
        </p:nvSpPr>
        <p:spPr>
          <a:xfrm>
            <a:off x="1187280" y="1825560"/>
            <a:ext cx="6786720" cy="23328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мещение протокола (публикация) на электронной площадк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14340"/>
          <p:cNvSpPr/>
          <p:nvPr/>
        </p:nvSpPr>
        <p:spPr>
          <a:xfrm>
            <a:off x="684360" y="5014800"/>
            <a:ext cx="7724520" cy="94644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момента подписания Заказчиком контракта он считается заключенны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и этом контракт может быть заключен не ранее чем через 10 дней с даты размещения протокола на сайт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Прямая со стрелкой 14354"/>
          <p:cNvCxnSpPr/>
          <p:nvPr/>
        </p:nvCxnSpPr>
        <p:spPr>
          <a:xfrm>
            <a:off x="2580840" y="2058480"/>
            <a:ext cx="1080" cy="407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TextBox 14358"/>
          <p:cNvSpPr/>
          <p:nvPr/>
        </p:nvSpPr>
        <p:spPr>
          <a:xfrm>
            <a:off x="1694160" y="2131920"/>
            <a:ext cx="573840" cy="2613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5 дне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Прямая со стрелкой 14361"/>
          <p:cNvCxnSpPr/>
          <p:nvPr/>
        </p:nvCxnSpPr>
        <p:spPr>
          <a:xfrm>
            <a:off x="3827520" y="2997000"/>
            <a:ext cx="915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TextBox 14363"/>
          <p:cNvSpPr/>
          <p:nvPr/>
        </p:nvSpPr>
        <p:spPr>
          <a:xfrm>
            <a:off x="4029480" y="2570040"/>
            <a:ext cx="573840" cy="2613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5 дне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Прямая со стрелкой 31"/>
          <p:cNvCxnSpPr/>
          <p:nvPr/>
        </p:nvCxnSpPr>
        <p:spPr>
          <a:xfrm>
            <a:off x="4939920" y="3389400"/>
            <a:ext cx="1080" cy="475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TextBox 33"/>
          <p:cNvSpPr/>
          <p:nvPr/>
        </p:nvSpPr>
        <p:spPr>
          <a:xfrm>
            <a:off x="5113440" y="3495600"/>
            <a:ext cx="1065240" cy="2613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3 рабочих дн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Прямая со стрелкой 47"/>
          <p:cNvCxnSpPr/>
          <p:nvPr/>
        </p:nvCxnSpPr>
        <p:spPr>
          <a:xfrm>
            <a:off x="2572920" y="454176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Прямая соединительная линия 9"/>
          <p:cNvSpPr/>
          <p:nvPr/>
        </p:nvSpPr>
        <p:spPr>
          <a:xfrm>
            <a:off x="5796000" y="4365720"/>
            <a:ext cx="914400" cy="9144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640" y="333360"/>
            <a:ext cx="5683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РО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ВАН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20760" y="135000"/>
            <a:ext cx="772920" cy="100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4343400" y="6400800"/>
            <a:ext cx="5335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88840" y="6113520"/>
            <a:ext cx="797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5292720" y="1365120"/>
            <a:ext cx="3689280" cy="282600"/>
          </a:xfrm>
          <a:prstGeom prst="rect">
            <a:avLst/>
          </a:prstGeom>
          <a:solidFill>
            <a:srgbClr val="cc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бедител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1187280" y="1365120"/>
            <a:ext cx="2787840" cy="282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12"/>
          <p:cNvSpPr/>
          <p:nvPr/>
        </p:nvSpPr>
        <p:spPr>
          <a:xfrm>
            <a:off x="539640" y="2463840"/>
            <a:ext cx="3287880" cy="10713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без подписи проект контракт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(с указанием цены и информации о товаре, конкретных показателях товара, указанных в заявке на участие в аукционе) 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17"/>
          <p:cNvSpPr/>
          <p:nvPr/>
        </p:nvSpPr>
        <p:spPr>
          <a:xfrm>
            <a:off x="3255840" y="5084640"/>
            <a:ext cx="3394080" cy="4730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контракт, подписанный усиленной электронной подписью,  на электронной площадке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1"/>
          <p:cNvSpPr/>
          <p:nvPr/>
        </p:nvSpPr>
        <p:spPr>
          <a:xfrm>
            <a:off x="1327320" y="804960"/>
            <a:ext cx="7394400" cy="33732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рядок заключения контракта при наличии разногласий  (ст. 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34"/>
          <p:cNvSpPr/>
          <p:nvPr/>
        </p:nvSpPr>
        <p:spPr>
          <a:xfrm>
            <a:off x="1766880" y="1825560"/>
            <a:ext cx="5340240" cy="2332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мещение протокола (публикация) на электронной площадк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4340"/>
          <p:cNvSpPr/>
          <p:nvPr/>
        </p:nvSpPr>
        <p:spPr>
          <a:xfrm>
            <a:off x="888840" y="5705640"/>
            <a:ext cx="7832880" cy="109908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момента подписания Заказчиком контракта он считается заключенны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и этом контракт может быть заключен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е ранее чем через 10 дней с даты размещения протокола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на сайт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ведения о заключенном контракт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убликует в течени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3-х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рабочих дней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О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4345"/>
          <p:cNvSpPr/>
          <p:nvPr/>
        </p:nvSpPr>
        <p:spPr>
          <a:xfrm>
            <a:off x="4525920" y="2463840"/>
            <a:ext cx="2124000" cy="80928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бедитель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протокол разногласий, с замечаниями к  проекту контракт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Прямая со стрелкой 14354"/>
          <p:cNvCxnSpPr/>
          <p:nvPr/>
        </p:nvCxnSpPr>
        <p:spPr>
          <a:xfrm>
            <a:off x="2050560" y="2080800"/>
            <a:ext cx="1080" cy="407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TextBox 14358"/>
          <p:cNvSpPr/>
          <p:nvPr/>
        </p:nvSpPr>
        <p:spPr>
          <a:xfrm>
            <a:off x="1330560" y="2135160"/>
            <a:ext cx="573840" cy="2613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5 дне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Прямая со стрелкой 14361"/>
          <p:cNvCxnSpPr>
            <a:endCxn id="72" idx="1"/>
          </p:cNvCxnSpPr>
          <p:nvPr/>
        </p:nvCxnSpPr>
        <p:spPr>
          <a:xfrm>
            <a:off x="3849840" y="2871360"/>
            <a:ext cx="676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TextBox 14363"/>
          <p:cNvSpPr/>
          <p:nvPr/>
        </p:nvSpPr>
        <p:spPr>
          <a:xfrm>
            <a:off x="3900960" y="2543040"/>
            <a:ext cx="573840" cy="2613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5 дне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Прямая со стрелкой 31"/>
          <p:cNvCxnSpPr/>
          <p:nvPr/>
        </p:nvCxnSpPr>
        <p:spPr>
          <a:xfrm>
            <a:off x="5003280" y="3279600"/>
            <a:ext cx="1080" cy="317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TextBox 33"/>
          <p:cNvSpPr/>
          <p:nvPr/>
        </p:nvSpPr>
        <p:spPr>
          <a:xfrm>
            <a:off x="4070520" y="3133800"/>
            <a:ext cx="798480" cy="4287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3 рабочих дн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37"/>
          <p:cNvSpPr/>
          <p:nvPr/>
        </p:nvSpPr>
        <p:spPr>
          <a:xfrm>
            <a:off x="6829560" y="2255760"/>
            <a:ext cx="1398600" cy="9309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Не позднее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13 дней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с момента размещения протокола подведения итогов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41"/>
          <p:cNvSpPr/>
          <p:nvPr/>
        </p:nvSpPr>
        <p:spPr>
          <a:xfrm>
            <a:off x="888840" y="3616200"/>
            <a:ext cx="4184640" cy="8092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доработанный проект контракта, либо повторно размещает проект контракта с указанием в отдельном документе причин отказа учесть полностью или частично содержащиеся в протоколе разногласий замечани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Соединительная линия уступом 8"/>
          <p:cNvCxnSpPr/>
          <p:nvPr/>
        </p:nvCxnSpPr>
        <p:spPr>
          <a:xfrm rot="5400000">
            <a:off x="8039160" y="1805760"/>
            <a:ext cx="1116720" cy="768960"/>
          </a:xfrm>
          <a:prstGeom prst="bentConnector2">
            <a:avLst/>
          </a:prstGeom>
          <a:ln w="2844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82" name="TextBox 11"/>
          <p:cNvSpPr/>
          <p:nvPr/>
        </p:nvSpPr>
        <p:spPr>
          <a:xfrm>
            <a:off x="5987880" y="3444840"/>
            <a:ext cx="2610000" cy="13114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бедител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подписанный усиленной электронной подписью проект контракта, а также документ, подтверждающий предоставление обеспечения исполнения контракта,  или протокол разногласи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5151600" y="3535200"/>
            <a:ext cx="788760" cy="4287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рабочих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дн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Прямая со стрелкой 20"/>
          <p:cNvCxnSpPr>
            <a:stCxn id="80" idx="3"/>
          </p:cNvCxnSpPr>
          <p:nvPr/>
        </p:nvCxnSpPr>
        <p:spPr>
          <a:xfrm flipV="1">
            <a:off x="5073480" y="4001760"/>
            <a:ext cx="9151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23"/>
          <p:cNvCxnSpPr/>
          <p:nvPr/>
        </p:nvCxnSpPr>
        <p:spPr>
          <a:xfrm>
            <a:off x="6465600" y="4744800"/>
            <a:ext cx="1080" cy="363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TextBox 25"/>
          <p:cNvSpPr/>
          <p:nvPr/>
        </p:nvSpPr>
        <p:spPr>
          <a:xfrm>
            <a:off x="5073480" y="4603680"/>
            <a:ext cx="1011240" cy="4287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3 рабочих дн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Прямая со стрелкой 19"/>
          <p:cNvCxnSpPr>
            <a:stCxn id="79" idx="1"/>
            <a:endCxn id="72" idx="3"/>
          </p:cNvCxnSpPr>
          <p:nvPr/>
        </p:nvCxnSpPr>
        <p:spPr>
          <a:xfrm flipH="1">
            <a:off x="6649200" y="2725560"/>
            <a:ext cx="180360" cy="146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Прямая со стрелкой 28"/>
          <p:cNvCxnSpPr/>
          <p:nvPr/>
        </p:nvCxnSpPr>
        <p:spPr>
          <a:xfrm>
            <a:off x="7529040" y="3233880"/>
            <a:ext cx="1080" cy="211680"/>
          </a:xfrm>
          <a:prstGeom prst="straightConnector1">
            <a:avLst/>
          </a:prstGeom>
          <a:ln w="9360">
            <a:solidFill>
              <a:srgbClr val="ccffff"/>
            </a:solidFill>
            <a:miter/>
            <a:tailEnd len="med" type="triangle" w="med"/>
          </a:ln>
        </p:spPr>
      </p:cxnSp>
      <p:cxnSp>
        <p:nvCxnSpPr>
          <p:cNvPr id="89" name="Прямая со стрелкой 14335"/>
          <p:cNvCxnSpPr/>
          <p:nvPr/>
        </p:nvCxnSpPr>
        <p:spPr>
          <a:xfrm>
            <a:off x="7529040" y="3233880"/>
            <a:ext cx="1080" cy="18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640" y="353880"/>
            <a:ext cx="5683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РО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ВАН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772920" cy="100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1187280" y="5950080"/>
            <a:ext cx="7201080" cy="647640"/>
          </a:xfrm>
          <a:prstGeom prst="rect">
            <a:avLst/>
          </a:prstGeom>
          <a:solidFill>
            <a:srgbClr val="c2fff0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дения о заключенном контракте заказчи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осит в течение 3-х рабочих дней в реестр контрактов на ОО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4343400" y="3357720"/>
            <a:ext cx="4549680" cy="718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нято решение о соответствии требованиям, установленным документацией об электронном аукционе, только одной второй части заявки (ч.13 ст. 6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1187280" y="5121360"/>
            <a:ext cx="7128000" cy="58068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нтракт заключается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рядке, установленном статьей 70  Закона 44-Ф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13"/>
          <p:cNvSpPr/>
          <p:nvPr/>
        </p:nvSpPr>
        <p:spPr>
          <a:xfrm>
            <a:off x="5103720" y="831960"/>
            <a:ext cx="2997360" cy="3902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2. Аукцион не состоял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Прямоугольник 14"/>
          <p:cNvSpPr/>
          <p:nvPr/>
        </p:nvSpPr>
        <p:spPr>
          <a:xfrm>
            <a:off x="1096920" y="1380960"/>
            <a:ext cx="2787840" cy="586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токол подведения итогов (ч. 8 ст. 6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оугольник 15"/>
          <p:cNvSpPr/>
          <p:nvPr/>
        </p:nvSpPr>
        <p:spPr>
          <a:xfrm>
            <a:off x="4343400" y="1379520"/>
            <a:ext cx="4549680" cy="295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ана только одна заявка (ч.16 ст. 6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16"/>
          <p:cNvSpPr/>
          <p:nvPr/>
        </p:nvSpPr>
        <p:spPr>
          <a:xfrm>
            <a:off x="4343400" y="1865160"/>
            <a:ext cx="4549680" cy="3985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нято решение о признании только одного участника участником аукциона (ч.8 ст. 6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17"/>
          <p:cNvSpPr/>
          <p:nvPr/>
        </p:nvSpPr>
        <p:spPr>
          <a:xfrm>
            <a:off x="4343400" y="2421000"/>
            <a:ext cx="4549680" cy="7617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течение 10 мин. после начала аукциона ни один из его участников не подал предложение о цене контракта (ч.20 ст. 6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26"/>
          <p:cNvSpPr/>
          <p:nvPr/>
        </p:nvSpPr>
        <p:spPr>
          <a:xfrm>
            <a:off x="1096920" y="836640"/>
            <a:ext cx="2787840" cy="3682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1. Аукцион состоял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22"/>
          <p:cNvSpPr/>
          <p:nvPr/>
        </p:nvSpPr>
        <p:spPr>
          <a:xfrm>
            <a:off x="4299120" y="4365720"/>
            <a:ext cx="4608360" cy="30708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тракт заключается в соответствии с п. 25 ч.1 ст. 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Прямая со стрелкой 7179"/>
          <p:cNvCxnSpPr>
            <a:stCxn id="96" idx="2"/>
          </p:cNvCxnSpPr>
          <p:nvPr/>
        </p:nvCxnSpPr>
        <p:spPr>
          <a:xfrm>
            <a:off x="2490480" y="1967040"/>
            <a:ext cx="1080" cy="315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Прямая со стрелкой 7181"/>
          <p:cNvCxnSpPr/>
          <p:nvPr/>
        </p:nvCxnSpPr>
        <p:spPr>
          <a:xfrm>
            <a:off x="6532200" y="40989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Прямая со стрелкой 7184"/>
          <p:cNvCxnSpPr/>
          <p:nvPr/>
        </p:nvCxnSpPr>
        <p:spPr>
          <a:xfrm flipH="1">
            <a:off x="6539760" y="4673520"/>
            <a:ext cx="1080" cy="448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Прямая соединительная линия 7187"/>
          <p:cNvSpPr/>
          <p:nvPr/>
        </p:nvSpPr>
        <p:spPr>
          <a:xfrm>
            <a:off x="6532560" y="3181320"/>
            <a:ext cx="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7190"/>
          <p:cNvSpPr/>
          <p:nvPr/>
        </p:nvSpPr>
        <p:spPr>
          <a:xfrm>
            <a:off x="6516720" y="2263680"/>
            <a:ext cx="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ая соединительная линия 7193"/>
          <p:cNvSpPr/>
          <p:nvPr/>
        </p:nvSpPr>
        <p:spPr>
          <a:xfrm>
            <a:off x="6512040" y="16747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06:05:05Z</dcterms:created>
  <dc:creator>Иванкин</dc:creator>
  <dc:description/>
  <dc:language>en-US</dc:language>
  <cp:lastModifiedBy>Екатерина Леонидовна Седых</cp:lastModifiedBy>
  <cp:lastPrinted>2014-07-24T12:27:48Z</cp:lastPrinted>
  <dcterms:modified xsi:type="dcterms:W3CDTF">2014-08-05T05:54:41Z</dcterms:modified>
  <cp:revision>158</cp:revision>
  <dc:subject/>
  <dc:title>АДМИНИСТРАЦИЯ г. ИВАНОВО</dc:title>
</cp:coreProperties>
</file>