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dt" idx="7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ftr" idx="7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 type="sldNum" idx="7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54C8-B1D0-4FEC-8539-EFAD282E6B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8D96-8419-4F10-BF8D-0823863CF0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7F07-0E07-400F-992A-FE0C30A5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A67D-631E-4686-BA70-A50BB605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F558F-8872-4334-991E-7EB98030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AE746-FD1A-4105-A98F-91ECD79D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2685F-FC6E-4018-9CD0-F87999C6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F24DA-13E1-4D3E-85C5-564FFD79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C9762-9718-4884-AC82-69939F60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0228D-BF94-4156-BDCE-83151403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BDE48-D305-4F8C-88DA-D609BBFA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35AA3-0B3D-49C4-8869-1E5468CA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A4076-575B-497B-AF10-71EDF87D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2A598-3095-423D-AB2B-5A6C53F4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1C45-F04C-4C5C-9453-4105AC1F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69CC6-647C-4A06-A606-9047BDF6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DF6CE-F4A4-4DBA-889F-90799A26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28D79-325F-4595-9DBC-30671746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15B33-A458-4FA8-A3E5-B0938361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14E01-45A8-40DE-AD5C-A5FB29A2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6D67A-08DE-4E45-B515-8CEB90E1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37DFC-AB1E-46C2-A41C-0A83E818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EE899-3478-40EB-90D1-FC3BAE13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3899E-BD75-44B5-85C3-8C61BC25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B3027-4989-4BB6-8061-BBF85F5F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D764-5806-4FB5-9125-D81A089A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6B709-9D6F-4C61-9374-E9504156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96204-292F-4DC5-9952-B2CE7B11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78C41-B685-45DB-B8A7-BDA6930F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577D4-0C3B-48D4-B3A7-E7B176F2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77298-CC5B-4F56-92D0-71DBFC7F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80458-45E2-4E58-AD77-E71D772F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90D66-EDF0-4009-94E6-B856B0EB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583E9-E8E1-4938-A820-1CB7F2BC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033D8-D259-4810-95E7-BAADA278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E56C3-88A9-4962-8045-1ACC81AD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ADFE-76A9-41E0-95B9-539FB6F1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705C2-4694-43CC-A824-15B65687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664DE-54FC-495A-B7D2-E7F3060C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CCA2F-71FA-49BF-9FF3-2DB0C8EB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52C96-5C0B-4CDB-9668-90B276DE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E45F8-4916-4B14-80D3-855E4D6F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0CA95-FFB3-4434-9837-0F6D8A51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B718E-8D23-45F1-ACC4-D50BD841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48984-9B89-4EE7-A741-F4E95B6D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62D41-FADB-42BD-9B9F-70739718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E3ECA3-CAFA-4AE3-A473-9435162D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17EE-F729-4C39-868D-D5B8315C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FC3E5-1008-408D-8A91-F52211E9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AD3FF-C8D2-473E-832A-A2753EAC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C887E-CEAB-4957-A5D2-839A9BBA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D17EE-01D9-4214-88CF-EDA8DF6A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16EFA-2AAE-45A2-BA41-F7850236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74DA7D-C896-4890-9CAA-7EEABEB0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F2B059-2D12-4958-88C3-D9B668CA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E0D7AA-B58E-4975-9B61-0749FCA2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095137-B5A1-4094-B2BB-80831789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4A4325-4C91-4A97-891A-9E80A433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06E5-9298-40BC-A834-34C9BBCF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0E36A8-208A-4CEE-BE12-E3B8B720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BBDCC1-A65B-4BCE-B111-A5C36E47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3D1331-2672-4D0D-AFFA-9F91C241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82D636-9A4D-48D1-94A7-55AAF86C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ECF100-9361-4BD4-9B8F-D50401F6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1042A2-C2B5-480A-9037-01BE7B63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4B392C-EE56-4753-8507-E79F790E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5C9820-A642-44EE-A41B-381A6B62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A57750-3819-46E7-AC0C-8EA145CC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3DB6D7-686C-4598-A1C7-6B6CE489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B64B-5651-4053-8377-284261FE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3A1B72-DF71-4BCD-8C84-35137625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934ED3-257C-49ED-B404-EC6A87E2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EADBE4-51C2-45AE-AF52-9EE3387C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18724E-2AF0-4DC2-9482-0ACBE27C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35EAAE-0E4B-4E32-BE24-9572CC92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444B24-F49D-40D8-BAE4-7332DFA7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9A9C9F-95FA-431C-B566-B7539015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0D0670-17C3-4391-93B7-4A2F7ACD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ECDF12-7E07-4C69-8CA4-242EA9A9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B80916-A6BA-403B-AF4B-B66EB6CA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E6F6-0288-4D5B-B506-2C13510D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9A7A57-AF2E-42ED-9179-0768F0EA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162280-BBB6-4743-8A63-A572C36C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F2BDEE-A73F-4C67-BF4C-04E8073C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8665F9-6BBD-4D68-AFC4-4ADBD241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BEBC90-12F2-4878-9CE8-5CA2E14B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70C52B-C386-4683-9DC4-792234AF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879CC1-85ED-4498-9800-F57922E9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C71D11-EEA2-4CBB-80D2-9BBEE981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B16173-7C86-469A-87F0-C21BB881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872298-D4BB-41CD-8E39-1068A028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A215-439B-431C-8A47-1D0B98A4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66D61B-576E-4EE1-A25A-B0655391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E1C640-DCFE-495F-808B-B622D97B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AA5FCE-9A4B-498A-9491-E7F3539B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CDD474-E3E3-48D3-81B2-A76BCE39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A5ACD6-53BE-4E93-80DF-09DA3704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036193-9E58-4E22-B3A2-5C320A40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4B0FCF-D17D-4601-9DAC-D4FD831B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40960A-5EE9-4053-A02B-7E246ACE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215767-1864-47B6-A3A2-85C7499E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EDE8F8-BDD8-4699-853E-07F892F6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B517-BB47-46D9-8150-5FD853B7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778A0C-A6C5-4EB3-A2D5-21C2D0E9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290F15-1FA3-484A-915E-B88D77AB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FFE80E-315F-462E-851D-EBF100A1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E7B42A-8EEE-4E74-B188-7F0D2D8C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065459-1409-437A-8509-52ED1520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53896B-1288-4BBF-9955-60C767FB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AE648E-E125-4A2A-8146-8AD2618E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752068-9EEF-462D-8F53-C9CAFC6A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1848E4-8F1E-465A-902B-20FC13F5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EDAAF0-B956-454F-B439-63307807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0B3A-6BCC-44A6-B522-A3577B86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B25D-47D9-4422-BEA1-A969AEBF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788FF9-C088-4D73-8590-739DF7CC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CF16D3-1F01-4D0F-89F3-FB718AE6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A6146D-B415-47FB-8488-56D05318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B343CC-9B56-4418-A33C-B7A54B5D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70CA52-092E-4703-9BC9-56A402CF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5B54A3-FDB0-4EF5-A273-BA8FD722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B226C9-D6E3-4528-A9EA-AA8B0D0E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2DA444-0A48-4255-875B-94F4FF09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FE05D7-F35D-4EDF-9C10-12E0ED2E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12269B-049E-4980-A408-27C28011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ED57-51C7-45D9-A126-B4205977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D8F3B9-D33D-479C-B93B-76E99190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5CF226-85C6-463E-9C8F-AE7CE2E6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09957F-6541-44A9-9664-1E4EDFA8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39172E-D492-4457-9AB9-9E598D6B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650F7A-D7CC-44D3-BADA-D77CBAF4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FE14A0-39E9-41F5-AA22-9F311790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BD60C3-C2D0-43A6-B1F3-9882613E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7416B3-F4C9-4DB3-830F-1B6819F9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10C9F2-3B65-4017-AF97-BAC2FE24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8BA16C-76AF-4CB0-B7FA-4EF5E72E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08DA-5347-43EF-B512-856BA6EA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97EAE1-E901-4918-9441-FD851226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91B207-856C-4153-86CC-AF08016A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8E3238-A6BA-4F74-8EA2-A524E882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4E6DA3-90ED-4033-81D5-8DDE446B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07CC8E-A986-4803-B80F-79880FA1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F5BFF5-CBE1-400A-BB6D-5C938ECC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C56F8F-A714-435E-B879-2C01C7FD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A385B5-6AE9-43CC-BD3F-8D7C9E40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73281C-A790-470B-BAEB-4751BE43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E979FB-1458-4948-85D2-4936CC66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4930-AF7A-4613-870C-D417AA50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6221F9-6E42-4A73-9458-1F969330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BE69FD-5B95-489B-8777-EEDBB332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F37775-B48E-4AB0-B1B2-CBE38DA5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DCD437-57E6-4D25-BE3E-7B81DE33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D8AD3C-36FB-4507-8BE7-01AD6FBF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3CAF70-6AF8-4EDB-8A76-136D61F1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F6A430-F624-43D4-A55A-0817FAAC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5A74C5-B2DD-462A-84F4-1D08B2F2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0B59C0-2467-4C9A-A05A-43664742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F63A73-36DC-4A31-996E-D5362F54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4280-1BD5-4A88-8771-97293A79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502E52-A0EE-4929-8145-0834ACD0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B8E2E1-95BC-4640-96BA-329F297C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71D7E2-A2B1-45F1-A7AA-ABB98280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FACBA2-F0C5-4972-BCD4-6768BA1D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EFA42B-E525-45A0-9555-211326FF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B0A0FA-739C-4B25-93DA-D866507A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DEB6A9-29D5-4126-8A05-035A958B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DA0895-1DBE-4269-9B3B-604CD353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8CBE5D-98DD-45D3-8B71-99410574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9B75A6-27D3-4E1A-9B1D-D9F9B16D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966F3-CF43-4FB0-83D9-A4CD3172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B24176-5F24-4EB1-A176-494B2DD1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22C8DE-479D-40A1-8476-69B25232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A6F3EB-AD73-40FC-B897-707AB0C9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000DF4-F539-4FB3-9415-551FF397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DFC4FD-334C-487A-A697-C8171781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6FF893-7083-4384-8717-A7651D52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3822B4-A335-48F6-8D88-652B1F62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2B0C82-BAE6-4070-9493-108A2C80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C21057-BE47-4330-B24E-182F252D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C01E96-1B72-4586-A265-A0027CBD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7D61A-0D67-4938-9F6E-89C87716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FB27B6-B9E2-4BFD-B94A-6E18CD3D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A4B773-6FEF-4F3C-B741-E2524495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FB4309-957F-46CC-926F-051ABA24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2483C2-9797-4EFA-90AE-5DBC4D19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2BD93D-E090-47BC-92E5-A83EBD39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392955-091C-4052-BE6E-A87FE653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C49FE4-23FE-478B-8192-8BE6CF52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F7BD58-C5C7-40FD-AAB0-86035656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2BD3BF-6C6D-4E71-A0EB-92C1CEBA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8204ED-4E1C-4834-95E0-DBF31CC8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52E24-6710-491E-ABB6-07C39577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DCFEB4-138F-4584-B959-CECC61CD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FF6B2C-0D0F-4DA2-AF91-08723B68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FE6BD3-6115-4B20-939F-73D37BEA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DF9685-8404-45A3-A3C0-E651E524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33FB32-89FB-44F8-9616-61A06080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B12043-6B93-4924-8AC1-CBE7E5BC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6B730B-08BB-4FF1-9FC5-FF7BDD01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B0D001-E941-4264-87B6-48F69336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04640E-AF75-40CA-AB31-6C2BE2A5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A0D515-E1E8-4700-B3DA-0C7A82B0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A16CF-FF77-4E43-812D-6A36B92E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1C35E4-03A4-4B15-9CA0-5FC38232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20EA02-707E-4ED0-95A4-339426F8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2B9E7D-CE61-449E-8ED8-8B95DCAD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6F9A83-9939-48EE-8C88-22121A82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BD2FFA-094B-418D-8CB2-69E8A08E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460872-8A48-41E2-AE52-3D331849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BF56CB-A050-4477-8CA1-0582A860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03FB20-15E2-453E-B778-2EC4BCE4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C96C3A-2BA3-424F-AA6C-213DF91C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E5839-E4B9-4AEC-8E22-9D287EEF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79A-F137-49B4-B883-766A0902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7CBB7-ED47-4B89-9EDA-F9438990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0877F-4345-41E5-BEFA-C21B9F9D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02B77-E2F6-4BB4-8D1D-DDAEAE4C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434B4-8D57-4F80-A9A2-8B24C033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676AE-109F-4F37-819F-E5929094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7F0F6-471A-4C8F-9974-4363CC34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28F09-EBC9-4DD0-95B3-FD81860D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A3CB7-529A-4E42-A16B-B431E7D3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B0D20-F8B4-46AC-B2CF-8401014D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D3861-D4F0-465F-B1BB-072A2F1D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ECF0-8B57-4AC2-8FD2-8CF987AA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D8E88-D966-4995-A959-14CE43FE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C2AAF-41B0-4CDD-87F8-E974613B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CE0BF-5C80-451F-B403-4A45BD53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75CE6-48F1-47E8-BC1A-71B82B98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B66FD-70B5-49DE-888A-91905B52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D953C-10EA-4A3F-8E67-1C044978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1F924-7653-4E90-AA54-22DFEA3B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66594-FD05-45CB-9418-EF02EE33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6CBFE-9DF7-457F-AEDC-D54AF86B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D67F4-E19F-427C-B72E-A861A801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D6CA-7327-46A4-AB6C-F439064C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A0CEA-4106-4992-936A-D7B4D3DF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FEF23-3F3E-4523-A99B-5B290C74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A42E2-A647-4C27-8F1F-F77C5592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E831D-DB3C-410D-92A4-8C642C9E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FA58D-B2A0-49A7-82F3-A9BFD46A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A37EE-8434-47C1-B75C-DB5B1C4C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CC80F-FEB9-48D6-88BD-C86B49E3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2134A-3A6C-4F4E-BA85-CEAEFA4A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C5C11-5C52-4281-BADA-F1CCC46D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5B40E-7BBC-45D9-A922-7C074BA8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5DA7-FCDF-42F2-A727-F5B7FD10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F33FD-2CE0-4724-A0ED-AF0D4CAD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EC3D4-15DC-4DC4-B608-FF4D8371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D08D2-FBEF-493E-8537-C1D44CC4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0CA1D-2FB5-44E9-9CDA-C8FC8EB0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40F43-A97F-4538-B2A6-1BA74B62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72C87-33BD-4CBA-94AD-24CD8396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77242-ED88-476C-9DDC-8E0D37EA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B369E-E73C-41C4-9FB8-ED4D3DF4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83E1E-B3D0-4933-8598-FEE46ACC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9111F-4136-4C57-9A91-4FE1DD2F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A15E-52F4-4900-A556-EA076BB0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E6A3B-0FBB-4BED-86CC-AF717D8F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24808-BACA-450B-8B54-B848F185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12FD3-C2BC-4CFE-B8BB-60492C10F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2BCA6-C667-4331-95EE-467ED3A8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91D14-758C-454A-931E-24F4CAE4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41436-0037-4550-A3DA-28C62E57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CF10B-D909-473A-8C3B-942EA3E6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8FB6C-B2F7-4B74-BBC3-A8863977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24C58-AE07-4262-8AD6-8AE79259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800C9-7414-440E-92EF-B50C2B87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9D05-E92F-47D6-9569-3654D16C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5A785-0AB4-4F2E-91BB-2B791A8C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82D1C-775C-4268-BA79-92E2588D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BADCE-F71C-419F-9FFA-59941F80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95CE2-BAE3-471A-8872-CE15A061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01FA3-7F53-40A7-B76B-298E75C3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1A761-874C-4BDE-A81A-B4CDCF18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AF41B-9D30-4C31-8363-BC5E029F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7937F-3D2D-498F-811B-7180CA9B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55AD6-C9DE-4729-AE6E-51CFF31C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48F6E-0369-420F-9360-C7874286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8B4A-B283-48DB-95F3-D5F323E8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79C50-AFCA-4EC2-9B77-9EADD08F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A4CF7-D056-4385-8D4B-5DC5517D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4B369-EE49-45E3-875C-98343515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9BB2C-47C3-48F8-9B72-766AC715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F3A52-082A-48CA-848E-63FD1D1E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AA9D4-5B08-4842-9546-9C058F5D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3C448-4FE4-4CB5-A2DE-B5513A4A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56907-1329-42CC-9204-A326D66F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F022C-1091-4E23-A117-084A8F59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4BB2F-4385-48BE-939C-826A5580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A778-FDB0-4A8E-8912-40EA9C33FB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22D1-849B-4A4A-9494-1001311C220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0610-20A9-4693-A906-26AFFC2155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DB52-0CA6-4573-82C2-5F99E29CA96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C7D2-DBCB-4944-9A1C-800D4646770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0B77-BF83-4BD9-9FAC-9F8630471B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B956-F025-48DE-AB1E-58D9B093315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7A2A-DC78-487C-AEE2-CFDB8DEAD08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05B1-1EB4-4049-B107-250FFDEE74F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4036-1125-439E-B350-7C76683C0A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A322-2B8F-420B-9636-86782635D2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EEB1-BDF9-42AC-BFFA-9314D5C664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0F8A-2F3E-4A92-AC85-6098B5130B2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8D62-AFC4-4754-877B-FB82AA8B730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4D95-F0EC-4A09-B79C-364D89B715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FBEC-7452-4504-8E1E-2259C9FA11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A0BE-13F7-4BD1-91DB-8AB7284CE26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343E-0089-4D61-817F-D3A23F69ACB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CFBB-A3E0-41CC-9A20-DF4BFA7CA46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2920-F00D-421C-9AF5-56108FA2948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490F-0923-45BF-9FBC-F233EDB25CA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9C3E-712A-4F80-ACDC-4EA21094F8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0767-B31F-437D-895F-F3A369AB557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5B2E-3F35-483D-BB35-62C27E2E831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619280" y="691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655560" y="5412960"/>
            <a:ext cx="8064720" cy="792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кт заключаетс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н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через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ь дне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здн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через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дцать дне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аты размещ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единой информационной системе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мотрения и оценки заявок на участие в конкур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заключенном контракт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казчик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тече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-х рабочих дней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ает в реестре контрактов на О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3" name="Прямоугольник 3" descr=""/>
          <p:cNvPicPr/>
          <p:nvPr/>
        </p:nvPicPr>
        <p:blipFill>
          <a:blip r:embed="rId1"/>
          <a:stretch/>
        </p:blipFill>
        <p:spPr>
          <a:xfrm>
            <a:off x="420840" y="122400"/>
            <a:ext cx="8448480" cy="871200"/>
          </a:xfrm>
          <a:prstGeom prst="rect">
            <a:avLst/>
          </a:prstGeom>
          <a:ln w="0">
            <a:noFill/>
          </a:ln>
        </p:spPr>
      </p:pic>
      <p:sp>
        <p:nvSpPr>
          <p:cNvPr id="994" name="Стрелка вниз 4"/>
          <p:cNvSpPr/>
          <p:nvPr/>
        </p:nvSpPr>
        <p:spPr>
          <a:xfrm>
            <a:off x="4313160" y="765000"/>
            <a:ext cx="576360" cy="287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Стрелка вниз 6"/>
          <p:cNvSpPr/>
          <p:nvPr/>
        </p:nvSpPr>
        <p:spPr>
          <a:xfrm>
            <a:off x="4308480" y="3564000"/>
            <a:ext cx="576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Прямоугольник 7"/>
          <p:cNvSpPr/>
          <p:nvPr/>
        </p:nvSpPr>
        <p:spPr>
          <a:xfrm>
            <a:off x="622440" y="2455920"/>
            <a:ext cx="7993080" cy="10443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дне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ы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меще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а  официальном сайт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а рассмотрения и оценки заявок на участие в конкурс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бедит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курс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ать контрак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едставить все экземпляры контракта заказчику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обеспечение исполнения контракт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Прямоугольник 8"/>
          <p:cNvSpPr/>
          <p:nvPr/>
        </p:nvSpPr>
        <p:spPr>
          <a:xfrm>
            <a:off x="611280" y="1052640"/>
            <a:ext cx="8064360" cy="100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казчик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3 рабочих дне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ы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писа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окол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ния и оценки заявок на участие в конкурсе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мотрения единственной заявки на участие в конкурс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яет победителю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ны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риложением проекта контракта, который составляется путем включения в данный проект условий контракта, предложенных победителем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Стрелка вниз 9"/>
          <p:cNvSpPr/>
          <p:nvPr/>
        </p:nvSpPr>
        <p:spPr>
          <a:xfrm>
            <a:off x="4348080" y="2060640"/>
            <a:ext cx="54144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Скругленный прямоугольник 10"/>
          <p:cNvSpPr/>
          <p:nvPr/>
        </p:nvSpPr>
        <p:spPr>
          <a:xfrm>
            <a:off x="655560" y="3933720"/>
            <a:ext cx="8064720" cy="1119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дне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ы получени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победителя конкурса или участника конкурса, заявке на участие в конкурсе которого присвоен второй номер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анного контракт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ложением документов, подтверждающих предоставление обеспечения исполнения контракта,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казчик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язан подписать контракт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ередать один экземпляр контракта лицу, с которым заключен контрак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Стрелка вниз 11"/>
          <p:cNvSpPr/>
          <p:nvPr/>
        </p:nvSpPr>
        <p:spPr>
          <a:xfrm>
            <a:off x="4356000" y="5052960"/>
            <a:ext cx="576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Схема 2" descr=""/>
          <p:cNvPicPr/>
          <p:nvPr/>
        </p:nvPicPr>
        <p:blipFill>
          <a:blip r:embed="rId1"/>
          <a:stretch/>
        </p:blipFill>
        <p:spPr>
          <a:xfrm>
            <a:off x="109440" y="1017720"/>
            <a:ext cx="8858520" cy="49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06:05:05Z</dcterms:created>
  <dc:creator>Иванкин</dc:creator>
  <dc:description/>
  <dc:language>en-US</dc:language>
  <cp:lastModifiedBy>Екатерина Леонидовна Седых</cp:lastModifiedBy>
  <cp:lastPrinted>2014-07-24T12:27:48Z</cp:lastPrinted>
  <dcterms:modified xsi:type="dcterms:W3CDTF">2014-08-05T05:59:09Z</dcterms:modified>
  <cp:revision>156</cp:revision>
  <dc:subject/>
  <dc:title>АДМИНИСТРАЦИЯ г. ИВАНОВО</dc:title>
</cp:coreProperties>
</file>