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839450" cy="7761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C5C-3747-40C2-AABB-ABF2E8CE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9754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1080" y="4486320"/>
            <a:ext cx="9754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2AE-CF20-4D77-A737-F3A8021D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10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96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E8C-49AC-4802-8A0E-57111418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9400" y="181116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8080" y="181116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1080" y="448632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9400" y="448632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8080" y="448632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4FB-3C0E-48ED-9F8F-FBE05F80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1080" y="1811160"/>
            <a:ext cx="975492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D05-4C26-425E-BF91-7120FDD4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97549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379-D0ED-48E1-A15D-CD287204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0C3-D265-428A-8749-052FAE9B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6C9-3864-4E23-92FD-4A7BF274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1080" y="311040"/>
            <a:ext cx="975492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3A9-3889-4FC4-92E3-6C6D3EC3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10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3F7-8192-4FDE-8955-E729B651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96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7DF-5982-4D54-ABB8-BE95209B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1080" y="4486320"/>
            <a:ext cx="9754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828-62B8-4F2A-805E-25302CB6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1080" y="1811160"/>
            <a:ext cx="97549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1440" y="7067160"/>
            <a:ext cx="2528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03320" y="7067160"/>
            <a:ext cx="34304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67720" y="7067160"/>
            <a:ext cx="2528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C30B-8C27-49FA-B05D-89D9A4534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" descr=""/>
          <p:cNvPicPr/>
          <p:nvPr/>
        </p:nvPicPr>
        <p:blipFill>
          <a:blip r:embed="rId1"/>
          <a:stretch/>
        </p:blipFill>
        <p:spPr>
          <a:xfrm>
            <a:off x="304920" y="1562040"/>
            <a:ext cx="10397880" cy="5715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" descr=""/>
          <p:cNvPicPr/>
          <p:nvPr/>
        </p:nvPicPr>
        <p:blipFill>
          <a:blip r:embed="rId1"/>
          <a:stretch/>
        </p:blipFill>
        <p:spPr>
          <a:xfrm>
            <a:off x="266760" y="304920"/>
            <a:ext cx="10325160" cy="5829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10477440" cy="6934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" descr=""/>
          <p:cNvPicPr/>
          <p:nvPr/>
        </p:nvPicPr>
        <p:blipFill>
          <a:blip r:embed="rId1"/>
          <a:stretch/>
        </p:blipFill>
        <p:spPr>
          <a:xfrm>
            <a:off x="266760" y="228600"/>
            <a:ext cx="10363320" cy="73152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363320" cy="7162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0553760" cy="35049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" descr=""/>
          <p:cNvPicPr/>
          <p:nvPr/>
        </p:nvPicPr>
        <p:blipFill>
          <a:blip r:embed="rId1"/>
          <a:stretch/>
        </p:blipFill>
        <p:spPr>
          <a:xfrm>
            <a:off x="380880" y="952560"/>
            <a:ext cx="10325160" cy="5943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" descr=""/>
          <p:cNvPicPr/>
          <p:nvPr/>
        </p:nvPicPr>
        <p:blipFill>
          <a:blip r:embed="rId1"/>
          <a:stretch/>
        </p:blipFill>
        <p:spPr>
          <a:xfrm>
            <a:off x="190440" y="76320"/>
            <a:ext cx="10439640" cy="4190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6:36:33Z</dcterms:created>
  <dc:creator>2</dc:creator>
  <dc:description/>
  <dc:language>en-US</dc:language>
  <cp:lastModifiedBy>2</cp:lastModifiedBy>
  <dcterms:modified xsi:type="dcterms:W3CDTF">2009-02-13T06:36:56Z</dcterms:modified>
  <cp:revision>1</cp:revision>
  <dc:subject/>
  <dc:title>Слайд 1</dc:title>
</cp:coreProperties>
</file>